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2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856-8EB5-4C5F-8FCB-2264546C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299-C12C-46EA-84F3-137E6D26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06C-3861-4A0B-ADA8-8327EF4F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105-BA99-41CD-82C0-AB9870B7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EEC-FCB7-4A76-B8C9-F4DB1BD6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CBEF-A28A-45A1-9D4D-A5245D94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31B-4924-4A3C-9864-04259864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1D0-707C-4FA2-90FE-49395E95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078-1319-4D0D-B490-2E4BBB26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6C2-706D-49B8-8A98-40B73013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2E7-325F-4E48-9580-D98595B7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A76-D4C2-4890-8D0D-9546C0D0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67AB-49B9-4190-A211-AC6BD2A7A8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Занятие 2. Святая Ру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:\02. ДНК\2-год обучения от 05. 08. 2011\ДНК\1-10 уроки. Святая Русь от 30.10.2011\1 урок\12. Святая Русь..jpg"/>
          <p:cNvPicPr/>
          <p:nvPr/>
        </p:nvPicPr>
        <p:blipFill>
          <a:blip r:embed="rId1"/>
          <a:stretch/>
        </p:blipFill>
        <p:spPr>
          <a:xfrm>
            <a:off x="0" y="1150920"/>
            <a:ext cx="914400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00. УРОКИ 2013-2914\01. ДНК\2-год обучения от 14.03. 2012 год\1-10 уроки. Святая Русь от 12.03.2012\1 урок\07. Угодник Божий.jpg"/>
          <p:cNvPicPr/>
          <p:nvPr/>
        </p:nvPicPr>
        <p:blipFill>
          <a:blip r:embed="rId1"/>
          <a:stretch/>
        </p:blipFill>
        <p:spPr>
          <a:xfrm>
            <a:off x="2286000" y="0"/>
            <a:ext cx="58356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годник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Божий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человек, угодивший Богу святою, непорочною жизнью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5720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вятые угодники Божии своей чистой и непорочной жизнью освятили каждую пядь Русской Зем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F:\00. УРОКИ 2013-2914\01. ДНК\2-год обучения от 14.03. 2012 год\1-10 уроки. Святая Русь от 12.03.2012\1 урок\09. Святые Земли русской.jpg"/>
          <p:cNvPicPr/>
          <p:nvPr/>
        </p:nvPicPr>
        <p:blipFill>
          <a:blip r:embed="rId1"/>
          <a:stretch/>
        </p:blipFill>
        <p:spPr>
          <a:xfrm>
            <a:off x="4530600" y="0"/>
            <a:ext cx="46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 1. Образ и подобие Бож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49568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бы на том месте, где жил святой, зажечь свечу, то вся Русь покроется такими свечами.  Святая Русь – это море свят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F:\00. УРОКИ 2013-2914\01. ДНК\2-год обучения от 14.03. 2012 год\1-10 уроки. Святая Русь от 12.03.2012\1 урок\11. Cвятая Русь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70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вятая Русь – это, прежде всего, люди, хранящие православную ве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F:\00. УРОКИ 2013-2914\01. ДНК\2-год обучения от 14.03. 2012 год\1-10 уроки. Святая Русь от 12.03.2012\1 урок\12. Святая Русь..jpg"/>
          <p:cNvPicPr/>
          <p:nvPr/>
        </p:nvPicPr>
        <p:blipFill>
          <a:blip r:embed="rId1"/>
          <a:stretch/>
        </p:blipFill>
        <p:spPr>
          <a:xfrm>
            <a:off x="-11160" y="1143000"/>
            <a:ext cx="9155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вященное Писание - Биб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F:\00. УРОКИ 2013-2914\01. ДНК\2-год обучения от 14.03. 2012 год\1-10 уроки. Святая Русь от 12.03.2012\1 урок\13. Священное Писание.jpg"/>
          <p:cNvPicPr/>
          <p:nvPr/>
        </p:nvPicPr>
        <p:blipFill>
          <a:blip r:embed="rId1"/>
          <a:stretch/>
        </p:blipFill>
        <p:spPr>
          <a:xfrm>
            <a:off x="609480" y="762120"/>
            <a:ext cx="8104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161316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Что такое эта «Святая Русь»? Это вовсе не то же, что Россия; это не вся страна в целом со всем греховным и низким, что в ней всегда бы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Биографии выдающихся людей России.Академик Дмитрий Сергеевич Лихачев"/>
          <p:cNvPicPr/>
          <p:nvPr/>
        </p:nvPicPr>
        <p:blipFill>
          <a:blip r:embed="rId1"/>
          <a:stretch/>
        </p:blipFill>
        <p:spPr>
          <a:xfrm>
            <a:off x="3333600" y="0"/>
            <a:ext cx="5810400" cy="46483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0" y="4724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«Святая Русь»—это прежде всего святыни Русской Земли в их соборности, в их целом. Это ее монастыри, церкви, священство, мощи, иконы, священные сосуды, праведники, святые события истории Рус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митрий Сергеевич Лихач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:\00. УРОКИ 2013-2914\01. ДНК\2-год обучения от 14.03. 2012 год\1-10 уроки. Святая Русь от 12.03.2012\1 урок\14. Раскрытая  Библия.jpg"/>
          <p:cNvPicPr/>
          <p:nvPr/>
        </p:nvPicPr>
        <p:blipFill>
          <a:blip r:embed="rId1"/>
          <a:stretch/>
        </p:blipFill>
        <p:spPr>
          <a:xfrm>
            <a:off x="7920" y="-7920"/>
            <a:ext cx="91360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:\00. УРОКИ 2013-2914\01. ДНК\2-год обучения от 14.03. 2012 год\1-10 уроки. Святая Русь от 12.03.2012\1 урок\15. Русские святые.jpg"/>
          <p:cNvPicPr/>
          <p:nvPr/>
        </p:nvPicPr>
        <p:blipFill>
          <a:blip r:embed="rId1"/>
          <a:srcRect l="3061" t="2222" r="2809" b="4444"/>
          <a:stretch/>
        </p:blipFill>
        <p:spPr>
          <a:xfrm>
            <a:off x="3733920" y="-38160"/>
            <a:ext cx="5410080" cy="6782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373392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 всей «территории» Святой Руси нарисуйте горящие свечи, которые как бы олицетворяют собой святых Земли Русской.  Этим светом освящается не только Русь, но и другие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кажи предположение, используя подсказку, какие цифры могли бы стоять на месте пропусков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еление России на 2012 год составляет … челове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я граничит с … странам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гласно данным переписи населения 2010 года, в России проживают представители более … национальност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оды России говорят более чем на … языках и диалекта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сский язык является родным примерно для … граждан России (92 % населения России)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сказка: (130 000 000),  (18), (100), (143 030 106), (200 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Таблица 2" descr=""/>
          <p:cNvPicPr/>
          <p:nvPr/>
        </p:nvPicPr>
        <p:blipFill>
          <a:blip r:embed="rId1"/>
          <a:stretch/>
        </p:blipFill>
        <p:spPr>
          <a:xfrm>
            <a:off x="895320" y="585720"/>
            <a:ext cx="7205760" cy="6156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0" y="4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Н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Р    </a:t>
            </a:r>
            <a:r>
              <a:rPr b="1" lang="ru-RU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9999"/>
                </a:solidFill>
                <a:latin typeface="Arial"/>
                <a:ea typeface="Times New Roman"/>
              </a:rPr>
              <a:t>Х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Ч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У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33ccff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9231" b="5467"/>
          <a:stretch/>
        </p:blipFill>
        <p:spPr>
          <a:xfrm>
            <a:off x="4910040" y="0"/>
            <a:ext cx="423396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02. Святая Земля.jpg"/>
          <p:cNvPicPr/>
          <p:nvPr/>
        </p:nvPicPr>
        <p:blipFill>
          <a:blip r:embed="rId2"/>
          <a:stretch/>
        </p:blipFill>
        <p:spPr>
          <a:xfrm>
            <a:off x="0" y="3505320"/>
            <a:ext cx="522432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 Святая Земля находится от нас далеко на юге в государстве Изра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00. УРОКИ 2013-2914\01. ДНК\2-год обучения от 14.03. 2012 год\1-10 уроки. Святая Русь от 12.03.2012\1 урок\03. Рождество Христово.gif"/>
          <p:cNvPicPr/>
          <p:nvPr/>
        </p:nvPicPr>
        <p:blipFill>
          <a:blip r:embed="rId1"/>
          <a:stretch/>
        </p:blipFill>
        <p:spPr>
          <a:xfrm>
            <a:off x="-57240" y="0"/>
            <a:ext cx="927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masi7i.com/uploads/414/607/jesus_life35.jpg"/>
          <p:cNvPicPr/>
          <p:nvPr/>
        </p:nvPicPr>
        <p:blipFill>
          <a:blip r:embed="rId1"/>
          <a:stretch/>
        </p:blipFill>
        <p:spPr>
          <a:xfrm>
            <a:off x="255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g1.liveinternet.ru/images/attach/c/3/76/703/76703911_0416007.jpg"/>
          <p:cNvPicPr/>
          <p:nvPr/>
        </p:nvPicPr>
        <p:blipFill>
          <a:blip r:embed="rId1"/>
          <a:stretch/>
        </p:blipFill>
        <p:spPr>
          <a:xfrm>
            <a:off x="213372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13320"/>
            <a:ext cx="9144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тое - то, что освящено Богом и посвящено Бог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слова-помощники: посвященное…________________________________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9720"/>
            <a:ext cx="745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тое – посвящённое Богу, освящённо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00. УРОКИ 2013-2914\01. ДНК\2-год обучения от 14.03. 2012 год\1-10 уроки. Святая Русь от 12.03.2012\1 урок\06 Святая Русь.jpg"/>
          <p:cNvPicPr/>
          <p:nvPr/>
        </p:nvPicPr>
        <p:blipFill>
          <a:blip r:embed="rId1"/>
          <a:stretch/>
        </p:blipFill>
        <p:spPr>
          <a:xfrm>
            <a:off x="304920" y="781200"/>
            <a:ext cx="8572320" cy="6076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Святая 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6:21:09Z</dcterms:created>
  <dc:creator>Ольга</dc:creator>
  <dc:description/>
  <dc:language>en-US</dc:language>
  <cp:lastModifiedBy>Olga</cp:lastModifiedBy>
  <dcterms:modified xsi:type="dcterms:W3CDTF">2015-04-25T21:14:1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